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76386"/>
        <c:axId val="7591855"/>
      </c:barChart>
      <c:catAx>
        <c:axId val="209763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1855"/>
        <c:crosses val="autoZero"/>
        <c:auto val="1"/>
        <c:lblAlgn val="ctr"/>
        <c:lblOffset val="100"/>
        <c:noMultiLvlLbl val="0"/>
      </c:catAx>
      <c:valAx>
        <c:axId val="75918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763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4697-2F6E-4E14-ABA8-FA42C5DF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3A2C-C86C-4EE6-8390-E50A140A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07B0-86CD-4631-8FBE-90D3577C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BDB2-6E62-438B-A0D6-0CD0B7E6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14F-7C56-442F-A4FD-10FE22E5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1C14-FF8D-4B47-B0BF-55715F6A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E633-78E1-4C6C-8B50-54814D00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1234-84B7-4B8A-B05E-347A447E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B46A-B5E9-4E63-88F5-3B0F641A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C406-F05B-4360-A356-25D83E66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8A29-E921-4EE1-B1B5-F03618E0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E004-034B-4EB6-A32E-D11C9AD9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4B06C-C818-4022-9B62-2BDE9C7DF3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