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64860"/>
        <c:axId val="4660896"/>
      </c:barChart>
      <c:catAx>
        <c:axId val="95964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0896"/>
        <c:crosses val="autoZero"/>
        <c:auto val="1"/>
        <c:lblAlgn val="ctr"/>
        <c:lblOffset val="100"/>
        <c:noMultiLvlLbl val="0"/>
      </c:catAx>
      <c:valAx>
        <c:axId val="4660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64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3F2-AAA9-49E9-8101-97A2F363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5ED-9DFE-486B-8DCF-6F77BEA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64A-3071-49E8-97F5-4158BFA4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F3A-293A-4188-ADA6-464E29D9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195-A762-46FB-AB5A-583FF1D3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AF0-6F40-4795-8B4E-763E310D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145-6DCB-4D4E-821E-9E80C8FB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F6C-B2D5-4BA2-A95F-AAA5C91D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859-09F7-4830-A2CB-1DB03A10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112-35CD-4750-9A83-19E5B5B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BC2-7B41-471A-8ED3-F2B7990C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3EE-E7ED-4486-B0C5-DFDCE755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CC69B-269A-4D2B-9F65-08373DE969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