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762809"/>
        <c:axId val="53579401"/>
      </c:barChart>
      <c:catAx>
        <c:axId val="397628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579401"/>
        <c:crosses val="autoZero"/>
        <c:auto val="1"/>
        <c:lblAlgn val="ctr"/>
        <c:lblOffset val="100"/>
        <c:noMultiLvlLbl val="0"/>
      </c:catAx>
      <c:valAx>
        <c:axId val="535794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7628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728B-F832-4773-8535-63B41163D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7B6A-59A8-47A3-9E3B-8E863169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FC9D-F552-4D77-90E9-EC394D1E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EA31-93D5-4EAB-85B1-863D3EDD3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2A94-337B-4AD3-9EB3-B43469BB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810A-2033-42CC-9452-84C81460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3E46-1DBD-4267-B2C9-AD0A5516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5859-59E1-47AD-A636-4342C5D4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5718-BBBE-4E05-A643-8DD5F2D9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1B0A-7062-4BFD-AC72-68769612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1DA7-A868-4FF9-82BA-69D39CCA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C4E5-F34B-40C9-8A44-987652B1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08E71-A038-4863-BA85-91CDEF0E5D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