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178"/>
        <c:axId val="22029873"/>
      </c:barChart>
      <c:catAx>
        <c:axId val="454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9873"/>
        <c:crosses val="autoZero"/>
        <c:auto val="1"/>
        <c:lblAlgn val="ctr"/>
        <c:lblOffset val="100"/>
        <c:noMultiLvlLbl val="0"/>
      </c:catAx>
      <c:valAx>
        <c:axId val="22029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7C0-7BB0-4E1C-BB07-357F3C3B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30B-DFBC-468A-A481-FAA8DCB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BBD-4DF3-48E7-BD47-C2D6893F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9FF-D9DB-46C4-BAB2-4C41574D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0D6-1CF2-4CF2-84EF-25BC26C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469-33BB-49D5-86F7-B9DD771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35F-3607-48FE-BCCE-05C91810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139-787D-4500-A93E-5B41294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88A-27A1-4B79-B31C-609F70E2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D61-E818-4E34-9E6A-D499D9A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79D-88EF-4F35-A4B6-AF29DEA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153-71BD-4C26-A51D-C3EED5FD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AF967-282C-490E-A28F-5C173C55B9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