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71762"/>
        <c:axId val="2826424"/>
      </c:barChart>
      <c:catAx>
        <c:axId val="509717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6424"/>
        <c:crosses val="autoZero"/>
        <c:auto val="1"/>
        <c:lblAlgn val="ctr"/>
        <c:lblOffset val="100"/>
        <c:noMultiLvlLbl val="0"/>
      </c:catAx>
      <c:valAx>
        <c:axId val="2826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717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914-A135-49E2-AA80-9B9033CA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A98-9C81-4485-9F45-16DDF1BB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4C77-3595-449E-8751-FAE512BA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F70-7927-4F53-87E8-C003FDFB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D46-59BE-47D8-B0A5-71082420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3410-6219-4B1D-BD9D-17B88FF8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1E9-D6E9-4CE5-9B99-5130F668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0CB2-F007-4133-827A-831021A2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5DE-614C-4F72-9AA3-2D726603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0551-3847-4A3D-BAD3-08533638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D125-273F-4814-93B4-28F39243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8D1F-A32E-4B11-9C3B-2CC29D26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07DA9-206C-490B-81B2-8F6BCF458E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