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75030"/>
        <c:axId val="52964481"/>
      </c:barChart>
      <c:catAx>
        <c:axId val="32575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64481"/>
        <c:crosses val="autoZero"/>
        <c:auto val="1"/>
        <c:lblAlgn val="ctr"/>
        <c:lblOffset val="100"/>
        <c:noMultiLvlLbl val="0"/>
      </c:catAx>
      <c:valAx>
        <c:axId val="52964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75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C92-6329-4804-80AC-E7079905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672-64B7-4C0D-AC0C-F0B2CC13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D39-9506-4D1B-964A-4CC72686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83E-4955-4AC0-A02F-90CAD12C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F60-5778-4F54-BFD4-35D43B47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308-008E-415E-BC84-1AEB5B60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47A-DA50-40BB-9ED2-185CFF7B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89D-F81B-4418-A427-A10EFC11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D4F-D6FB-4C81-A19E-C118D7F7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CA5-7317-4FB4-997F-A2D12DE9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E6A-33B3-4B24-A662-EE250C0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F1F-F2EF-46A1-A7E1-FD9B2197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07E63-7645-4DD4-A94C-BBCBCBEADA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