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195646"/>
        <c:axId val="61874468"/>
      </c:barChart>
      <c:catAx>
        <c:axId val="341956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874468"/>
        <c:crosses val="autoZero"/>
        <c:auto val="1"/>
        <c:lblAlgn val="ctr"/>
        <c:lblOffset val="100"/>
        <c:noMultiLvlLbl val="0"/>
      </c:catAx>
      <c:valAx>
        <c:axId val="618744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1956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1694-CC71-44AA-970F-B0221804B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A9AC-E4AE-4C76-A63C-3BA8D8C82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C6380-0C32-43D0-9EB1-9CED63911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7F57-827C-4185-B300-ECADFA49C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A870-4D10-43A2-B032-097F806A3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AED0-0B73-42A9-A3B0-6A63C51E4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459A-6205-4ED4-BD14-688A97842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7F89-27FE-4262-828E-A403C04FF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464F-973E-4031-9A41-A099D939A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6D28-458C-45BF-8B99-205CC66C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9CE6-7A31-4F1A-BB9C-5A2A3FB8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1113-0843-4864-8501-4BFC41C5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C9CAED-523A-489B-A7E4-815DE8A960D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