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60590"/>
        <c:axId val="34952065"/>
      </c:barChart>
      <c:catAx>
        <c:axId val="87960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52065"/>
        <c:crosses val="autoZero"/>
        <c:auto val="1"/>
        <c:lblAlgn val="ctr"/>
        <c:lblOffset val="100"/>
        <c:noMultiLvlLbl val="0"/>
      </c:catAx>
      <c:valAx>
        <c:axId val="349520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60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321-6D6C-41C5-9090-33435EE2C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D78-9C83-42C0-820E-7176EA58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85E6-B6E4-4D2F-8ECB-F29AB960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43E7-CBC8-44B7-8712-7018796C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B1D4-3473-4AB2-8D70-F9E1FB46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EBD0-8FE7-4E5B-86DC-B508BF06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ECB-1053-4455-A015-3D5CDF5C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CD2-6394-4CDC-AE79-B1ED087C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F4AC-A467-4008-8942-CCE0FA85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318-6203-4ACF-B36D-30E6411A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561-BB4F-4C81-B0DC-52196331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917-DEAF-416D-A5CD-42B5BA35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7E4A3-3B9E-4B21-AEFF-52C89132D2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