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77269"/>
        <c:axId val="10382845"/>
      </c:barChart>
      <c:catAx>
        <c:axId val="33977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82845"/>
        <c:crosses val="autoZero"/>
        <c:auto val="1"/>
        <c:lblAlgn val="ctr"/>
        <c:lblOffset val="100"/>
        <c:noMultiLvlLbl val="0"/>
      </c:catAx>
      <c:valAx>
        <c:axId val="10382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77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259-1877-496C-9206-98F4AC08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B3D-964E-4114-AB5F-65627807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81A-D292-4B52-9726-A8448FD0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F97-839A-4547-BD50-F092801C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DAE-4EE1-41FC-8AD0-E35DDBD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49E-0B82-4F9A-8D29-2DF17585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C2A-16A6-47EF-9164-70BE5508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21B-3C23-4287-93FA-CB5CBA40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C9A-6A3B-4847-A773-98190AD9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0B8-0893-4045-9FA1-2E9082F0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C4C-5D2D-4238-8F3B-45E62B3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E0F-5B7E-42D7-80A6-2B72C17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89F02-33DB-4FB2-BB32-163759264E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