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71828"/>
        <c:axId val="9517908"/>
      </c:barChart>
      <c:catAx>
        <c:axId val="40271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908"/>
        <c:crosses val="autoZero"/>
        <c:auto val="1"/>
        <c:lblAlgn val="ctr"/>
        <c:lblOffset val="100"/>
        <c:noMultiLvlLbl val="0"/>
      </c:catAx>
      <c:valAx>
        <c:axId val="9517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71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D79-9C83-46E2-B967-4DABCA43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2E5-9E58-4D9E-933B-4D2D71FD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4DE-DD11-4CE1-A482-955947DF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08E-43C6-40A9-90B8-ED41E9A9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DCC-3E96-4341-99AC-574D149C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B3B-C5FF-42A0-8454-698CD3F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638-0D54-4DD0-834E-B6E81BCF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ABA-4F6D-4582-91F1-3E160C7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079-22F2-4A75-BB80-0A91128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5AD-E630-49AC-8DCE-CD4E730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608-9C1A-4881-8B4E-96D4E02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603A-26E0-40A8-A96F-895DFB1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C6AB1-8A86-460C-AF39-31DBEDD96B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