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30559"/>
        <c:axId val="97623499"/>
      </c:barChart>
      <c:catAx>
        <c:axId val="60430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23499"/>
        <c:crosses val="autoZero"/>
        <c:auto val="1"/>
        <c:lblAlgn val="ctr"/>
        <c:lblOffset val="100"/>
        <c:noMultiLvlLbl val="0"/>
      </c:catAx>
      <c:valAx>
        <c:axId val="97623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30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4EB-F548-45B9-BAEE-F8D1CC63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138-FD92-4E52-BD5E-715A1E4C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45C-D588-4201-924B-345F34F8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B83-4C5D-4C90-AF28-9A82D9BE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051-FE12-47BE-B200-DEE539FE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C66-5632-4C97-BFAE-E2E71AB7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D30-3B50-4A78-A30B-757D3F44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869-7611-49D1-BD7F-C8025B28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78E-728A-4D07-A759-6ED5A508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E6B-A02F-4A39-8ECB-E77D4E61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DEF-23B6-4D2F-B02C-AFA757D6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42F-A838-4514-9DF3-2AA0A716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5D72A-07E7-495B-9407-2403742161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