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23926"/>
        <c:axId val="70934598"/>
      </c:barChart>
      <c:catAx>
        <c:axId val="76323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34598"/>
        <c:crosses val="autoZero"/>
        <c:auto val="1"/>
        <c:lblAlgn val="ctr"/>
        <c:lblOffset val="100"/>
        <c:noMultiLvlLbl val="0"/>
      </c:catAx>
      <c:valAx>
        <c:axId val="70934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23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047-4132-4635-8FC7-588DC6D0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25E-8054-4CD7-B403-CE506E7E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C87-388F-4D25-87E7-615BD400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DE6-7637-4CE3-825C-4E84A5DF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6B1-3311-4E32-890B-9CD6B23A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74D-03F0-4F71-A172-1CB2AF53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F4F-F698-453D-9659-E315ABDC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6D0-7C57-4496-B37D-7CBE85DF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7B6-63CF-4494-B3F5-373D7005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C76-4131-4CEC-8F78-1A47FC0B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59B-AD58-4697-9A98-E1ACAF2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0D7-636D-4F04-9ABB-B2161C6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72975-42B0-46A8-94D8-F6DB343CC7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