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22583"/>
        <c:axId val="4507291"/>
      </c:barChart>
      <c:catAx>
        <c:axId val="562225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7291"/>
        <c:crosses val="autoZero"/>
        <c:auto val="1"/>
        <c:lblAlgn val="ctr"/>
        <c:lblOffset val="100"/>
        <c:noMultiLvlLbl val="0"/>
      </c:catAx>
      <c:valAx>
        <c:axId val="45072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225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C6B-A749-420D-A7DA-F15673C2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FFDA-EE0C-4F80-9522-5BE6F55D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A27-FB97-42E7-81C5-B524C9DE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610E-D660-4178-B319-12238066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21F2-56B1-4AB8-B190-C2BAA0D4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ACEF-DBAA-4C20-835A-9FCBC9B9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4192-DE74-4ED6-98DA-40C8EF5F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FA77-A74F-440A-A1DE-69CA9848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17A0-3E7B-46AC-8381-E261F94E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D9D5-2C73-43F4-9356-F5C7F47B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9B3-250B-4F6A-A6DB-D6C346C2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5F62-A608-42E2-86F2-C4D93074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A8CE0-A2CF-46F3-995B-8A38320B6F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