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14065"/>
        <c:axId val="25179094"/>
      </c:barChart>
      <c:catAx>
        <c:axId val="19214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79094"/>
        <c:crosses val="autoZero"/>
        <c:auto val="1"/>
        <c:lblAlgn val="ctr"/>
        <c:lblOffset val="100"/>
        <c:noMultiLvlLbl val="0"/>
      </c:catAx>
      <c:valAx>
        <c:axId val="25179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14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4F4-A316-4DB1-B56E-538D553A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98C-7A2B-493C-8F1E-45B7AF30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581-EBB1-49A6-A18E-BDA8B821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D50-E7F2-485D-BAA0-64E9AC99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EF7-FDA4-4576-8644-0B547366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788-DDF8-4178-9BAB-00D0BABF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764-FCB6-41FC-96C1-A76E8A46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7A1-035C-42E7-BAC4-32CED6A2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9CD-59B0-401A-90EF-F21C45F0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BD9-BDD5-470F-82C7-2F2D00A1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1E4-FAE2-4946-9BD7-B703AE2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06D-A7BB-4F42-BEDD-3206B284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48BC1-5B57-4038-82A5-F5CA68F85E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