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3676842"/>
        <c:axId val="35844242"/>
      </c:barChart>
      <c:catAx>
        <c:axId val="7367684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844242"/>
        <c:crosses val="autoZero"/>
        <c:auto val="1"/>
        <c:lblAlgn val="ctr"/>
        <c:lblOffset val="100"/>
        <c:noMultiLvlLbl val="0"/>
      </c:catAx>
      <c:valAx>
        <c:axId val="3584424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67684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9D49-3110-4D54-9575-DD90C675A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E154-69C4-4418-BD14-45E98FFDC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BCEE-C323-403E-A746-88A6AE0CC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A46A-FA4B-4AAC-A54F-4B406E428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98A4-A2E8-4119-8DE2-19197C4C3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3C26-B705-40D7-A602-D62E610B2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6519-CFB2-4730-AFBA-7BAF94565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16C4-8F93-47CF-A26A-B15DC6C57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3087-944E-466B-9125-D9161C959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7E5F-6306-4A01-AC63-D1CFA5D70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A218-62E5-4D9A-8064-D454F0AE5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D053-6969-4342-8643-A46BB75E4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E779B8-2D93-4951-878E-3F6C8738AD0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