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0347397"/>
        <c:axId val="48456188"/>
      </c:barChart>
      <c:catAx>
        <c:axId val="3034739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456188"/>
        <c:crosses val="autoZero"/>
        <c:auto val="1"/>
        <c:lblAlgn val="ctr"/>
        <c:lblOffset val="100"/>
        <c:noMultiLvlLbl val="0"/>
      </c:catAx>
      <c:valAx>
        <c:axId val="4845618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34739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81AD-D293-4BC0-AEE5-89DE8CED4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DC6E-5A4E-471A-8ED7-BA7AE7615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1643-4069-48AF-894D-5970D40F8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A659-FF42-4548-9C4F-7923819CE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A551-E182-4489-BF43-C75E1D04C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CA86-7F6E-4CA0-8DD1-B09BB453A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B8B3-9DCE-4D9C-BD76-656FF80B8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32E1-E5DE-4DD4-9017-F2633D0AA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7E3D-5EF6-4D81-AF6E-122CD7A18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0227-D772-4544-A7DA-6C1BDA3B7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5A53-9257-4279-B7D3-247DC8946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0053-6575-4E32-B90C-59449DE02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21DB21-AFB8-4314-85FB-E041B40FFED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