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44691"/>
        <c:axId val="24538312"/>
      </c:barChart>
      <c:catAx>
        <c:axId val="11444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38312"/>
        <c:crosses val="autoZero"/>
        <c:auto val="1"/>
        <c:lblAlgn val="ctr"/>
        <c:lblOffset val="100"/>
        <c:noMultiLvlLbl val="0"/>
      </c:catAx>
      <c:valAx>
        <c:axId val="24538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44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78B-CC6A-44C0-860B-9D05D6CF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665-A048-4EEA-811D-5CCD36CD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CDF-6B3C-44D3-9D82-CA923257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768-B065-4328-84CF-36BC63A8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6C9-3D6E-47DF-A0F9-0FF93627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6DC-EA0C-4702-AF09-4616DC59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759-7C84-4970-8A69-F1292E1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6A3-C775-4884-89EB-B9D989BB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012-07D0-470C-9735-FAAD46CC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076-12BC-4958-80FD-D80A6C4E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6FB-F75A-407C-87AE-AB86566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B39-1D15-47A8-9710-BE63401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EE3D8-E720-406B-A4B3-DE361AACF1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