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90579"/>
        <c:axId val="88744439"/>
      </c:barChart>
      <c:catAx>
        <c:axId val="97190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44439"/>
        <c:crosses val="autoZero"/>
        <c:auto val="1"/>
        <c:lblAlgn val="ctr"/>
        <c:lblOffset val="100"/>
        <c:noMultiLvlLbl val="0"/>
      </c:catAx>
      <c:valAx>
        <c:axId val="887444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90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495-335F-4905-A8B3-04E4BB86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2DF-31CC-4D96-860C-F699323B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7E5-2F73-4ED3-91A4-8DA7EF51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535-56C0-40B9-B98A-5598C874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B89-D5D8-4322-8379-B6A27D89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538-D6DF-4B48-8EE1-4148D611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636-2694-43E2-BC42-516258EC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9A7-F347-426A-994F-0317A15C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613-B001-4CFE-960C-2849DE88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022-74AC-4533-8DE2-26BF2A91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CA38-BB5D-462D-9180-78391F30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F17-6027-4A59-8A32-2B3FB708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B1D1E-480B-4839-ABB2-AD2C3B8C95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