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19193"/>
        <c:axId val="41722123"/>
      </c:barChart>
      <c:catAx>
        <c:axId val="69019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2123"/>
        <c:crosses val="autoZero"/>
        <c:auto val="1"/>
        <c:lblAlgn val="ctr"/>
        <c:lblOffset val="100"/>
        <c:noMultiLvlLbl val="0"/>
      </c:catAx>
      <c:valAx>
        <c:axId val="41722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9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E85-3CC0-4531-9462-656D0CAB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3DE-A166-4554-BC84-4516BDD6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3B8-D8DD-4F38-8E2C-445AAD8E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5A2-2F89-46CA-9D6D-49328C05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151-05E3-4669-AFCF-CB07296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20F-6F1B-44FF-9354-C06978B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121-369B-4E8B-AC85-0FC692F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219-5FE9-46F1-9D89-642D19B4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1F3-18DC-4509-AB52-F48E42A0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93A-38FD-4207-8271-789179C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81A-43D5-4F0F-9E3F-5DBD245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286-9836-4F9B-9369-4485C61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E7EFD-6440-442D-9E07-3F7B54E10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