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3118"/>
        <c:axId val="52891885"/>
      </c:barChart>
      <c:catAx>
        <c:axId val="4283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91885"/>
        <c:crosses val="autoZero"/>
        <c:auto val="1"/>
        <c:lblAlgn val="ctr"/>
        <c:lblOffset val="100"/>
        <c:noMultiLvlLbl val="0"/>
      </c:catAx>
      <c:valAx>
        <c:axId val="52891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3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625-1153-4FFE-8E8F-0D4879C4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8F4-B4A0-45BF-BA76-843F567C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E17-EF3E-4ACE-B690-BBF0B976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E25-BB9F-4962-B7A0-84DB14D1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29B-B0AB-4BD3-9ADF-466E0156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566-448F-4996-A60A-FC7A3302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C9B-A41A-4101-8ED8-0841FE98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CCB-A1C3-4D00-9A7F-A86FD9F0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61C-7BB7-486E-92A1-AB1CE3EB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C2B-B9B9-4EAC-9405-A8107885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DF0-0DD6-48EE-9271-5CDF429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A8C-69B0-4FA9-A325-D917BC4B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81483-6203-4F2D-BBBD-B948AEE193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