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22473"/>
        <c:axId val="24940759"/>
      </c:barChart>
      <c:catAx>
        <c:axId val="38022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40759"/>
        <c:crosses val="autoZero"/>
        <c:auto val="1"/>
        <c:lblAlgn val="ctr"/>
        <c:lblOffset val="100"/>
        <c:noMultiLvlLbl val="0"/>
      </c:catAx>
      <c:valAx>
        <c:axId val="24940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22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61F-AF92-4BE3-A2FF-B268F992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622-1A58-4EC8-B158-222DF543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9CB-09CC-408A-ABAF-7CE950CC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4A8-B1CF-4CBE-9C2F-88ACF372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683-C52E-4D73-8E94-2AC99624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5D7-1213-4889-BBE4-8229325E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740-B5AE-47C6-A274-C580A10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933-35A8-42F2-BEF1-29964AEA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96E-66E3-4A6B-9588-FE99B46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9E8-5821-47D6-807A-272E457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7FC-36B5-40B6-80BA-5C049ADA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560-B31B-4FA1-A372-77E051D5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9C0E8-EFF9-4C5A-9447-E9B22F2B85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