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183389"/>
        <c:axId val="66004427"/>
      </c:barChart>
      <c:catAx>
        <c:axId val="591833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004427"/>
        <c:crosses val="autoZero"/>
        <c:auto val="1"/>
        <c:lblAlgn val="ctr"/>
        <c:lblOffset val="100"/>
        <c:noMultiLvlLbl val="0"/>
      </c:catAx>
      <c:valAx>
        <c:axId val="660044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833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82ED-A900-4A88-A95A-2A64ECD6C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AA88-638D-4385-A811-7B70A2EE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59EA-43D9-421E-9CA4-A4430A74A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F766-6DB8-441F-9606-3C2576017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066A-2F22-4299-B40D-FAC88986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5CF7-D50B-4CF2-B690-079E078B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A411-8004-4B48-91A5-1DA7A1D1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616B-6455-4CE2-92F7-352B37EE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405D-8EC1-4B27-B32A-3A2DB299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ECE8-00C5-4385-880A-033D2EF0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0587-C709-44F8-95BE-42FDCE31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4F8D-D264-4A0C-86C3-3EADEB0A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9F13F-AAEB-4AFD-9FF3-0DA444F9ED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