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5628"/>
        <c:axId val="55378229"/>
      </c:barChart>
      <c:catAx>
        <c:axId val="37165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8229"/>
        <c:crosses val="autoZero"/>
        <c:auto val="1"/>
        <c:lblAlgn val="ctr"/>
        <c:lblOffset val="100"/>
        <c:noMultiLvlLbl val="0"/>
      </c:catAx>
      <c:valAx>
        <c:axId val="55378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5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5C0-5E53-4389-8510-FE759B6A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B98-9514-4C36-9A7D-2FC7528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D55-DBFD-463F-9796-C1F5D329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6E8-A7D3-4154-8EA8-AB3BD53D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46B-702E-46E3-AD97-3E12B5A0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B79-BDEB-43BB-A9BD-6E95F62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541-B251-44C1-AB65-FC4846DB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1FB-ED72-42B0-89D5-14A4AEA8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2D1-B711-4CC1-9042-1AD3ADEC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002-5090-4629-A29A-C775A01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FAE-DB9F-434E-A841-0460AE3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6A6-8F97-4193-9DD4-0F5390D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F1D0C-E68A-485E-B39B-A83BCBB296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