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69023"/>
        <c:axId val="98603407"/>
      </c:barChart>
      <c:catAx>
        <c:axId val="36069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03407"/>
        <c:crosses val="autoZero"/>
        <c:auto val="1"/>
        <c:lblAlgn val="ctr"/>
        <c:lblOffset val="100"/>
        <c:noMultiLvlLbl val="0"/>
      </c:catAx>
      <c:valAx>
        <c:axId val="98603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69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8E4-260A-4F6E-B659-147E6DF4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5A7-0B89-4C62-BBDD-D270E0C8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384-EDB2-4746-AC78-DCBCCEBE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544-572E-40EE-A0F4-59108E26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300-EFC6-4C25-8434-34FB74F9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297-5778-4ADC-B933-871EB8F5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057-F10F-47B1-A5A6-DEC52731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4FD-5254-4B76-970C-6FB5D5D3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DD6-D99B-45AE-B452-96E1332B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279-1885-49F0-A9E3-CE6DF1E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54B-BA61-47F4-8D06-B59B31F3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747-85C4-4F89-9F6E-9DAD6C0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E3175-4D02-4D83-94C9-9AFC7AA701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