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037247"/>
        <c:axId val="10135462"/>
      </c:barChart>
      <c:catAx>
        <c:axId val="300372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35462"/>
        <c:crosses val="autoZero"/>
        <c:auto val="1"/>
        <c:lblAlgn val="ctr"/>
        <c:lblOffset val="100"/>
        <c:noMultiLvlLbl val="0"/>
      </c:catAx>
      <c:valAx>
        <c:axId val="101354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0372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62BA-EB97-4378-ACB7-B2C6F13D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D6E1-217B-4759-8EB1-20C843F17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01C-4F8B-4570-8F44-D3D45E871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D606-3F71-4D53-85A4-41FE51B86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FDE-1A4E-4066-8817-0208C5EC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4E22-5572-4544-95D4-5F536457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7A7-18EE-48AF-BB11-C4627B361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E095-98BD-48C1-A56A-134435C3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ED3E-AF29-41C9-B1C3-1712DF2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5AD-533B-41A3-BFB0-D7B0CE65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57C-C88B-4022-B16B-27D88F5C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5DAE-C247-44EF-9542-D1217666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A7C9D-4116-4E6E-8F8A-AF4CE1F18D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