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59463"/>
        <c:axId val="29841140"/>
      </c:barChart>
      <c:catAx>
        <c:axId val="99059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41140"/>
        <c:crosses val="autoZero"/>
        <c:auto val="1"/>
        <c:lblAlgn val="ctr"/>
        <c:lblOffset val="100"/>
        <c:noMultiLvlLbl val="0"/>
      </c:catAx>
      <c:valAx>
        <c:axId val="29841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9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6A3-5890-4B4E-868D-4171E30D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A6D-B2AC-48ED-803B-97C2937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279-09F1-4578-A12F-8519F0F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D42-2F4B-4A4A-9AC1-326453DD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52F-4556-42FA-AD1B-7B8B5C11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989-A58A-4EC0-B7F9-621D714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0DA-45BA-4318-B721-588D6A0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EB0-7397-40B0-B1D3-D54064A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31E-E888-4220-916F-E84E93A8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C3E-149E-4294-9398-2A7F6FA4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B63-ABBC-4598-89AC-DD8FBA3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234-D311-4229-B8CF-CE2A6D5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CB78C-0A86-41B7-8E36-27CF82886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