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05146"/>
        <c:axId val="35139702"/>
      </c:barChart>
      <c:catAx>
        <c:axId val="6960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9702"/>
        <c:crosses val="autoZero"/>
        <c:auto val="1"/>
        <c:lblAlgn val="ctr"/>
        <c:lblOffset val="100"/>
        <c:noMultiLvlLbl val="0"/>
      </c:catAx>
      <c:valAx>
        <c:axId val="35139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E68-F656-4DFA-A3DE-6A0696B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E1C-E507-43AC-8533-7F73871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3A7-42E1-4052-BB09-78A635F0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28F-0238-42AF-A3B7-72A5E9A1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7C4-76A1-43AE-A43B-ECCE8C8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E70-4CDA-482D-BC56-BF0563C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E89-4539-4E50-AAE6-EE82F5B0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F19-570A-4DD6-9B7D-41B2DCE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1E5-386D-4B09-838B-8F2664C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A85-DB81-4518-A42C-7108B19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D74-55A3-453C-A8C5-0E2DEE2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720-CBC4-4D5B-B551-BCBEB5B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0256-58AC-4ECB-A454-5AA48684C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