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67796"/>
        <c:axId val="16000156"/>
      </c:barChart>
      <c:catAx>
        <c:axId val="68767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0156"/>
        <c:crosses val="autoZero"/>
        <c:auto val="1"/>
        <c:lblAlgn val="ctr"/>
        <c:lblOffset val="100"/>
        <c:noMultiLvlLbl val="0"/>
      </c:catAx>
      <c:valAx>
        <c:axId val="16000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7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C43-65F3-4032-A55F-702E054C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F64-FD61-400B-B471-657A9AD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345-7A1E-4A6B-AA93-E1777476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773-CA54-48B2-A2EF-7306CF12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CE6-9AB0-41FC-BA08-F4D861B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4E4-CD2A-4F54-9469-D6B7EA0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5BD-FF4F-4C82-AD24-6F417D07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52D-8B11-4A22-91ED-DFD33403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FD4-4771-4F2F-B748-C96BF536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3C5-B1D0-4027-8E41-3D8CA5D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A41-73F9-4F12-87D0-08EDF3C4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6DC-B02D-4AC6-BD4A-B32E351E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F0D3-030A-4396-A3A9-546A82A0A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