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44507"/>
        <c:axId val="85239680"/>
      </c:barChart>
      <c:catAx>
        <c:axId val="80444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39680"/>
        <c:crosses val="autoZero"/>
        <c:auto val="1"/>
        <c:lblAlgn val="ctr"/>
        <c:lblOffset val="100"/>
        <c:noMultiLvlLbl val="0"/>
      </c:catAx>
      <c:valAx>
        <c:axId val="85239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44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405-A21E-4B5F-B42D-53AF7B23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C63-129A-4763-9FCB-4C3D8A41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B17-F2D7-441E-BBF4-AAF3FA36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33C-0002-4C1F-8F88-F3CB7FFE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BA5-C57F-4C75-889A-1CC56F77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2FC-FA9B-457E-9440-EB0C1F08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2D1-1BE9-4B58-88DB-AFFC0CAD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896-C24F-4612-ABDB-5F82792D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4B9-04B1-4928-9E62-F4EF9120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46F-3D52-44BD-BBB1-6CEF4E8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700-77EC-4272-BF65-E0FC48D1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E34-9CE5-4EF6-B4D5-9E3A4BE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E6C76-A812-4E55-B3F4-309081316B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