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48512"/>
        <c:axId val="58132179"/>
      </c:barChart>
      <c:catAx>
        <c:axId val="77248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32179"/>
        <c:crosses val="autoZero"/>
        <c:auto val="1"/>
        <c:lblAlgn val="ctr"/>
        <c:lblOffset val="100"/>
        <c:noMultiLvlLbl val="0"/>
      </c:catAx>
      <c:valAx>
        <c:axId val="58132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48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D75-060B-4F34-AB68-1B16F884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B32-61C2-4485-A709-D6ABDBB2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768-AE1B-4FE5-8B48-0A507D54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2CF-8D2D-4211-B25C-5A7D89B4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FF4-4A1E-4249-9243-69BD8E8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F6F-8707-4AE9-B15D-EF9A802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025-BFF5-4E0E-ACA9-7FF9D69A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C92-58FA-47CC-83AC-1D70C6A1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630-902D-4566-8A2E-7A7E671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C21-F8E3-42EF-8203-81261B5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F4D-4CC6-4A8E-903F-FFAA5D3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0E8-1043-42A1-B8E2-3973A4F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803D1-FAAA-48D8-9084-C0F9E9AB92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