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32019"/>
        <c:axId val="28245119"/>
      </c:barChart>
      <c:catAx>
        <c:axId val="84432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45119"/>
        <c:crosses val="autoZero"/>
        <c:auto val="1"/>
        <c:lblAlgn val="ctr"/>
        <c:lblOffset val="100"/>
        <c:noMultiLvlLbl val="0"/>
      </c:catAx>
      <c:valAx>
        <c:axId val="28245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32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8A5-971E-47B8-B298-BEC852E1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D8C-1C73-43C7-ACE4-29441CDA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425-867F-41F3-938E-C04975B3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F96-FD63-4FDE-9F80-85A3E7B5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CA9-4854-46FE-9FD2-6EE02AB2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011-3C6E-48D4-B6F0-B19A861F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295-97CA-4418-941A-70FAF831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29B-2FCC-4ACA-8CA6-8A4FE3DA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0B2-3E27-47DD-83A1-82316DE6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05D-2959-4F04-AD43-15FB00C8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079-4A81-4C38-980E-4B859459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0BD-E53F-4ADB-9768-B40A0F21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56C29-123B-4FB6-BBCB-EB78C88832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