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007657"/>
        <c:axId val="25022570"/>
      </c:barChart>
      <c:catAx>
        <c:axId val="820076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022570"/>
        <c:crosses val="autoZero"/>
        <c:auto val="1"/>
        <c:lblAlgn val="ctr"/>
        <c:lblOffset val="100"/>
        <c:noMultiLvlLbl val="0"/>
      </c:catAx>
      <c:valAx>
        <c:axId val="250225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076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2A76-CDB7-4454-ADB8-EA312019D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AD0F-D89F-4B9D-941F-B8CA2F88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749B-83E8-4F6A-9CC2-1043DF40B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0C76-AC80-4FAB-AC0D-DBF4820E6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117A-A129-457E-BD95-B18F3C77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97CD-5043-429D-A6E8-45F832A0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C276-2206-480B-83A7-68CB86EA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2132-6C25-4C45-83EC-3E27A01E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8637-4540-4B89-9561-174E8A88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F3A8-6809-48F9-999C-B08CAACE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C230-347F-4BB5-96A3-E65D7783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324A-C89B-49F5-8A43-3CA56AFC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1D7C8-BB3A-45B7-B7AB-E2CE9A996F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