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43642"/>
        <c:axId val="5329842"/>
      </c:barChart>
      <c:catAx>
        <c:axId val="67443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842"/>
        <c:crosses val="autoZero"/>
        <c:auto val="1"/>
        <c:lblAlgn val="ctr"/>
        <c:lblOffset val="100"/>
        <c:noMultiLvlLbl val="0"/>
      </c:catAx>
      <c:valAx>
        <c:axId val="5329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43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600-898C-4D4B-872C-B9E043C9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B09-8642-4114-85E9-CD187DE5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976-AE8C-447B-A55C-7DCC3D49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B1D-17F5-4FF6-8D6A-E64DAEE5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AB6-1850-4444-A883-E9A6EF4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F4E-477A-4F3D-8C7B-1AF79890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B53-D64D-495B-8937-0B1CCB99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E16-6A3C-48B8-9C14-425B409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F30-AC59-46EE-A951-857B703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FC9-3528-47E0-8E81-3697958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B74-2047-45ED-976E-5165AC3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1FE-1110-4070-8350-A6A944A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4C6F4-8B69-4B6D-B338-B192CE39B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