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747689"/>
        <c:axId val="97023485"/>
      </c:barChart>
      <c:catAx>
        <c:axId val="107476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023485"/>
        <c:crosses val="autoZero"/>
        <c:auto val="1"/>
        <c:lblAlgn val="ctr"/>
        <c:lblOffset val="100"/>
        <c:noMultiLvlLbl val="0"/>
      </c:catAx>
      <c:valAx>
        <c:axId val="970234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7476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0BD0-192F-4C7C-994C-6026C98DC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3EC4-7761-4EA1-9D69-2E5905DF4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40B7-3FB3-4D42-93ED-E225F3B76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4122-F9F0-485F-B248-0771F74CE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4548-07EA-4637-925C-C5EBE2679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5681-9BE2-4C37-ABAE-FA09F69F3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9713-4345-4DA1-9380-39C6155AA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46FF-1658-4845-A914-C2B46E0BA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94FD-791D-472C-811D-955F761E3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EE56-B365-4FD9-A735-AC49D1A16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51C2-7546-491E-9B4F-4A448CFDC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378F-8C12-4A41-9611-CFC8DC7DD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E82F82-B6C2-4869-A7C9-37D99A7CA4A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