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24782"/>
        <c:axId val="52459914"/>
      </c:barChart>
      <c:catAx>
        <c:axId val="31324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59914"/>
        <c:crosses val="autoZero"/>
        <c:auto val="1"/>
        <c:lblAlgn val="ctr"/>
        <c:lblOffset val="100"/>
        <c:noMultiLvlLbl val="0"/>
      </c:catAx>
      <c:valAx>
        <c:axId val="52459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4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64D-5CFB-4A16-BE8C-FF6D0C2A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5A3-986A-46C4-ABA9-ABFF57A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857-F879-43C3-B952-84764A58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850-9E12-467D-8926-D542468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ECF-4835-40B6-BC55-4D4024A1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D00-900A-4BF9-B914-3B95D18E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F48-C8BB-4869-8AEE-E57AF39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121-FCE2-48CC-82AE-6749336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CAF-167A-41DC-B145-BE847C5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EFC-B693-4D3F-B236-8815D7E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8CB-F8B9-4AAE-B1E3-095613F8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EFD-121D-4EE6-943A-0934433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3633-B318-4209-BE69-7F4A81A320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