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47367"/>
        <c:axId val="29955329"/>
      </c:barChart>
      <c:catAx>
        <c:axId val="37347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55329"/>
        <c:crosses val="autoZero"/>
        <c:auto val="1"/>
        <c:lblAlgn val="ctr"/>
        <c:lblOffset val="100"/>
        <c:noMultiLvlLbl val="0"/>
      </c:catAx>
      <c:valAx>
        <c:axId val="29955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7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12F-D82D-4C6A-8517-FED50DD6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D9D-8577-4BC4-9135-A1988779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94E-A119-49F0-B984-9DEA85C2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AE5-F298-4662-9693-ED6877CB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43F-4318-4168-9995-26E181B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7D8-3491-4609-BB0F-500176DE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153-0979-410F-98F6-8F6083BB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E15-F895-4EE8-A9F9-9C3022E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3CB-A374-4E08-97BC-4CB8F45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04F-FE01-47B4-A0CD-2E3D4D2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2F2-138A-4DBF-8FDD-3359B70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C6D-D08B-4BB8-A12B-32A7819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1F5A-96BC-4C54-B2DD-D9C4EF5E7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