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41340"/>
        <c:axId val="60450391"/>
      </c:barChart>
      <c:catAx>
        <c:axId val="52141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50391"/>
        <c:crosses val="autoZero"/>
        <c:auto val="1"/>
        <c:lblAlgn val="ctr"/>
        <c:lblOffset val="100"/>
        <c:noMultiLvlLbl val="0"/>
      </c:catAx>
      <c:valAx>
        <c:axId val="60450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41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A24-031C-493A-A4FF-31B03F04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FCB-814A-427B-A70C-387BF4AD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653-BCF9-4F16-BE32-C6422C09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F1B-748A-46E7-974E-403DA367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880-65FB-433D-A89B-BBEFC750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3BE-1D69-4E5C-BE89-9C569714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EE0-3992-4840-8103-A2D7AA12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8DF-DD77-492A-ACC7-33811070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859-D81B-4253-8D2D-CCC34F3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C61-5821-4140-9789-A484180B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8DE-5598-4A34-B417-67C57034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A5C-BC3A-415C-A0CB-4070124C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6C33C-F5FD-480E-A7D7-CCAFBA4B91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