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17540"/>
        <c:axId val="80261807"/>
      </c:barChart>
      <c:catAx>
        <c:axId val="74917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61807"/>
        <c:crosses val="autoZero"/>
        <c:auto val="1"/>
        <c:lblAlgn val="ctr"/>
        <c:lblOffset val="100"/>
        <c:noMultiLvlLbl val="0"/>
      </c:catAx>
      <c:valAx>
        <c:axId val="80261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17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776-643F-40E3-A35D-84718B4C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1A4-7666-4721-AA68-686B5085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328-9303-42B6-8D5C-7C66BD35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AC7-65E7-4378-9255-AC09B90F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3D3-1060-496F-92AF-4B5DE601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1C6-58F2-44B5-AA61-D4B3FCDA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6D3-654E-4DB8-BA93-05FD2868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DE4-161D-4DB1-A0EA-28C934CC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DD0-78AF-4711-8896-A5D92007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73B-E868-4FF4-B69F-DC636DC7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877-2886-40FC-8092-5B18AD36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BB3-2EC9-48D4-B8CD-1D24F81A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579DF-2B47-41C9-9BB1-2DCBD3A0CF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