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57471"/>
        <c:axId val="51317175"/>
      </c:barChart>
      <c:catAx>
        <c:axId val="45257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7175"/>
        <c:crosses val="autoZero"/>
        <c:auto val="1"/>
        <c:lblAlgn val="ctr"/>
        <c:lblOffset val="100"/>
        <c:noMultiLvlLbl val="0"/>
      </c:catAx>
      <c:valAx>
        <c:axId val="5131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7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8FC-8894-45A9-9E81-B3876B46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798-6830-449B-BF95-E6B395F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A39-732B-4D52-84D6-38233131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17E-494E-441A-B541-A3EAE57A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153-7272-406D-9060-A8B7F56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3E0-D304-4529-8976-E88D603A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872-8515-4AD5-8098-5FE76DE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9AE-D077-4018-9769-DB76E38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3CF-7298-4C81-BD8C-39D5FB14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0B1-2088-49E0-B6C3-AA7791B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275-6724-49C9-BEC7-F345379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40FE-FFAE-4E8A-AC35-8DC9EB8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3C8F0-E2F4-4F4F-A69E-A615C17D9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