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65182"/>
        <c:axId val="74013905"/>
      </c:barChart>
      <c:catAx>
        <c:axId val="28865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13905"/>
        <c:crosses val="autoZero"/>
        <c:auto val="1"/>
        <c:lblAlgn val="ctr"/>
        <c:lblOffset val="100"/>
        <c:noMultiLvlLbl val="0"/>
      </c:catAx>
      <c:valAx>
        <c:axId val="74013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65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EBF-C674-4143-9FB5-0355228B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857-488A-4667-9E8E-347B620C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045-CEDB-4376-972C-18630E5F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395-53D2-4C87-B399-6947BE51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30E-6E01-4CD1-A5D5-E14A6B05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491-443C-43EE-AEBD-F9A950A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56C-CFB3-4990-87E2-6042CB4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D00-BA2A-4F42-8433-9CEAF0DF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A84-9BAB-4B56-B0B0-A830A23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6EE-7135-4972-90F7-D66B0F6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91A-17F8-49CC-96E4-5C23C16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B17-65B3-4194-BC82-1B76C74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279A4-16D4-46C6-9F9F-D62365F5C9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