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69128"/>
        <c:axId val="82683575"/>
      </c:barChart>
      <c:catAx>
        <c:axId val="22469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83575"/>
        <c:crosses val="autoZero"/>
        <c:auto val="1"/>
        <c:lblAlgn val="ctr"/>
        <c:lblOffset val="100"/>
        <c:noMultiLvlLbl val="0"/>
      </c:catAx>
      <c:valAx>
        <c:axId val="82683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69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D6C-21F6-4162-B181-6A4706F6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188-61E3-4907-A6E0-5CB9930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843-43FB-4045-BF47-17E454B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694-4B04-44F1-B36F-0D6BB36C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B09-1588-40A2-849A-D4BF67B5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CCD-D7A1-43AC-9D52-49D3081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052-A87B-4F74-AD00-7E01DD6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AB7-5EBF-4D8A-8AFC-4EA124C3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4F2-EE60-4472-9E4B-3ADC6EB3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759-B08B-41E0-B975-04A8D517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ED4-F71F-4A2C-A9FC-7A56755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AB7-819A-4E76-8ACE-78E38E4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0B9B9-837D-4D2B-9BAA-3441E5C1E9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