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47722"/>
        <c:axId val="35621009"/>
      </c:barChart>
      <c:catAx>
        <c:axId val="79347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21009"/>
        <c:crosses val="autoZero"/>
        <c:auto val="1"/>
        <c:lblAlgn val="ctr"/>
        <c:lblOffset val="100"/>
        <c:noMultiLvlLbl val="0"/>
      </c:catAx>
      <c:valAx>
        <c:axId val="35621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47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6E3-7525-44FE-91FB-052E80A1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0C8-7F61-4E2D-9D96-A6C7973A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127-C198-4D00-8DA1-A6C3E951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D78-E4FC-4401-9C9E-AF8B191F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1F8-4FD1-45DB-8D35-4694D858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A21-5248-4D72-B8AE-1814BC59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043-33A7-419E-9D52-0571961C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59E-3C0C-4525-A672-42B823E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BE7-68F8-4CA7-9428-EED30613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A35-4FDD-44A6-BF26-190F559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E68-5B98-4187-8D9D-1012C57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C8C-5C6E-456C-9780-FB9CB242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E913F-0575-43CB-B62E-7EB499DDD4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