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59794"/>
        <c:axId val="4155176"/>
      </c:barChart>
      <c:catAx>
        <c:axId val="22859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5176"/>
        <c:crosses val="autoZero"/>
        <c:auto val="1"/>
        <c:lblAlgn val="ctr"/>
        <c:lblOffset val="100"/>
        <c:noMultiLvlLbl val="0"/>
      </c:catAx>
      <c:valAx>
        <c:axId val="4155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59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D10-F829-4FCE-B027-FBCDA238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A74-8DF4-457E-876B-A35D7AEE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4D1-7498-4CC2-8830-16BE924E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89D-1C3C-4BEC-8B9C-B8CAB0B2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E854-BDAC-4C79-817B-D263D7FA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D73-8F51-4D0A-BA34-117600AA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5AA-0BD1-4C71-A6EE-A36E55E0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F68-5ADE-4798-909F-3F0F4C7A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4036-2A30-46E1-B2DF-84AB1085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E88-047B-416F-8057-C7935F80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3CF-9544-4121-BEAE-C4FF0F20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941A-A054-4B3C-8E10-0B0DEBA0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3F98B-4D3E-474F-BA3D-3F44FD0191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