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30532"/>
        <c:axId val="71603457"/>
      </c:barChart>
      <c:catAx>
        <c:axId val="77030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03457"/>
        <c:crosses val="autoZero"/>
        <c:auto val="1"/>
        <c:lblAlgn val="ctr"/>
        <c:lblOffset val="100"/>
        <c:noMultiLvlLbl val="0"/>
      </c:catAx>
      <c:valAx>
        <c:axId val="71603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30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94D-FF7A-4DDC-9212-7DD66A99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AB8-A810-4FDC-AEFB-89F6D9B1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7A7-BE87-4086-9311-A38EC37E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F01-6826-4933-9B76-515BD1A2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4B7-D8AA-4C82-87CD-DDA2E1D3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2E4-2325-4573-9C09-F7F51635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D97-BAAD-4BEB-BD6E-8BE47219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F0E-5738-4DD9-8CBD-07735BE9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BCA-38C7-466B-A235-AA4538D9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323-7929-4DE9-9446-9F946869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489-824C-4C93-82BB-4BC452EF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A71-39F8-4EF9-BAB8-65B6C23B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26D67-C738-4E47-91B0-EFCEA8DA08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