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47474"/>
        <c:axId val="23124611"/>
      </c:barChart>
      <c:catAx>
        <c:axId val="21747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24611"/>
        <c:crosses val="autoZero"/>
        <c:auto val="1"/>
        <c:lblAlgn val="ctr"/>
        <c:lblOffset val="100"/>
        <c:noMultiLvlLbl val="0"/>
      </c:catAx>
      <c:valAx>
        <c:axId val="23124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47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4BB-8DAD-469A-A41F-1AE26A02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F4A-D9BD-4E3F-81EF-ED5DC5DD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6EB-155C-429E-8EB5-5C5D8D7B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B70-DF52-4A6B-9406-6B97AE05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F8E-AF2B-4AFE-BE8A-DCF85D08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F2F-AB04-40A7-B4BB-AFEEB33E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9D8-7807-44F9-AF8E-8BD4DC9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B88-0546-4D6C-8654-DBB4114F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EEE-6CDD-4352-BC2A-4474B5B2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304B-59DB-430E-B698-A99FE52C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3D1-B6EA-4396-A321-3D98B34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62F-17A4-4B12-8BFB-4862F8B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B9D5C-C4F1-409B-AF93-5D39055D9F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