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832784"/>
        <c:axId val="12526597"/>
      </c:barChart>
      <c:catAx>
        <c:axId val="888327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526597"/>
        <c:crosses val="autoZero"/>
        <c:auto val="1"/>
        <c:lblAlgn val="ctr"/>
        <c:lblOffset val="100"/>
        <c:noMultiLvlLbl val="0"/>
      </c:catAx>
      <c:valAx>
        <c:axId val="125265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8327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1D5A-34EA-4081-B7F0-ABA6C0FFC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79DB-F2FF-43CA-B888-CE7F3F42F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28D5-F765-44F8-B351-1284ABC1A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3934-A043-4827-8356-212DB7935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0B83-038E-47CE-A320-208283BD2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92D8-E168-4C95-AAA5-1C552B2C6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1647-6518-474A-BAF3-8C7338A15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AFAF-7D78-474C-8C57-932101C3E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F54F-1D0F-4EF6-860A-3525E4F81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DAE4-0630-4892-9AD4-E205BDC2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A3F5-B1FF-4D93-AB76-532160C7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705A-4E3A-48DA-BEB5-91F88EC3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8118B3-406E-4FA4-ACDF-16BA54F02C5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