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19145"/>
        <c:axId val="4777154"/>
      </c:barChart>
      <c:catAx>
        <c:axId val="5441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154"/>
        <c:crosses val="autoZero"/>
        <c:auto val="1"/>
        <c:lblAlgn val="ctr"/>
        <c:lblOffset val="100"/>
        <c:noMultiLvlLbl val="0"/>
      </c:catAx>
      <c:valAx>
        <c:axId val="4777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0FC-73AC-4252-A918-79667CAD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8BE-A833-4563-9FEB-91155CC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C96-A81E-436A-BD9E-6DAE2727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10-9977-4633-B117-83A3C9CD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39C-6FB3-4C96-AF86-1C34000F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811-B5D0-4042-B521-D85FF86F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679-CAE2-4914-8645-E0D4C9F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A63-6CEA-4CB5-A2F4-C38C2F0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625-D5A3-457E-A188-96910C8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D1B-1D84-4567-B273-B69C3BE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50B-E769-4463-9839-48F9E71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CE1-25AE-4507-A59B-E6ED15E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1BB8C-D5CC-4B08-B985-77AF15B906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