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054571"/>
        <c:axId val="66036517"/>
      </c:barChart>
      <c:catAx>
        <c:axId val="960545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36517"/>
        <c:crosses val="autoZero"/>
        <c:auto val="1"/>
        <c:lblAlgn val="ctr"/>
        <c:lblOffset val="100"/>
        <c:noMultiLvlLbl val="0"/>
      </c:catAx>
      <c:valAx>
        <c:axId val="66036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545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E2C-5AA1-4A6A-956C-F2C2DD35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9A0-9E8E-48B8-BC35-A2B2EA1A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059-7102-482C-9845-935E0957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A8E-9EC4-4D6A-B78E-519E4E51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DBA-DC80-4CAF-BBED-4683E6FA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E00-BC09-4623-B742-3028627E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F8A-48DB-4E78-88B4-EB5C375C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C57-0E79-47EB-8B8A-94CD829E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887F-3DA8-47F1-8F0A-7036C7E5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AF0-6328-4546-B63E-FC430619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40B-9E0C-41C7-9973-1A465734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81F9-F279-41C9-948A-BC41EC39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A51F7-54D5-4E83-AFC6-E3ABFB99FB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