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67705"/>
        <c:axId val="78498722"/>
      </c:barChart>
      <c:catAx>
        <c:axId val="963677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98722"/>
        <c:crosses val="autoZero"/>
        <c:auto val="1"/>
        <c:lblAlgn val="ctr"/>
        <c:lblOffset val="100"/>
        <c:noMultiLvlLbl val="0"/>
      </c:catAx>
      <c:valAx>
        <c:axId val="784987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677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501-726A-467E-851A-060B5ECD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1859-C129-4E8E-9AAB-FC374B19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5C9E-97FC-4A30-A650-67480DA8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6796-4C93-4FDB-BE16-42231113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A808-8998-4C2B-B35C-DCA5C081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99B-7527-45BB-9584-6F399879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A09-006C-4BEB-B035-D4CFE1E2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E224-E194-4595-93CA-F2CA2F58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A922-1AC0-410E-B29E-E177EDC2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EDD1-F1B4-4E2D-82C6-F7DE4D4F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D13B-3C0D-4178-9023-C48A435D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2F42-C87B-4BAF-8849-901BB192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61DDD-B8DC-41FC-B804-FB668BA30A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