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3455"/>
        <c:axId val="95281419"/>
      </c:barChart>
      <c:catAx>
        <c:axId val="7163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81419"/>
        <c:crosses val="autoZero"/>
        <c:auto val="1"/>
        <c:lblAlgn val="ctr"/>
        <c:lblOffset val="100"/>
        <c:noMultiLvlLbl val="0"/>
      </c:catAx>
      <c:valAx>
        <c:axId val="95281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3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60D-982C-460C-B341-1DDFBFB4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018-69F9-4B75-97B2-A4D29E1A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340-4D6A-4038-90EA-C1F6B695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FDC-3010-45B3-8BC3-4F97F503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901-8E91-4D37-9980-7D821E6E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1CE-E862-45E8-B604-6AB4D405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BD5-23E5-4CD8-8772-7A69444E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664-8354-4159-ABB0-F1ACDCDF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461-33AD-4D9A-A566-063538F1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C0A-23EE-476B-8901-31534343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243-001C-482E-A926-7E1EA844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E35-F26E-4B53-B2C1-23EA7A89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DEFEC-8B85-423F-8DB5-30B4D3CD31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